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AF2-88A9-42B0-8190-B18C8F53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64C-7D9A-4BB9-959F-3629C094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5AF-700A-48E4-833F-587EDBD8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F23-23B9-4E68-84B0-78C9FEA8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521-D2EF-4917-8226-95B2C61A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C39-53E2-4FF6-AEE7-AB686065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BE1-A88A-45A1-8189-15ED4724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92F-A657-43C8-9C03-959E871C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ED9-24FB-4DD4-B9A1-84752D79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149-9BC7-4C2B-B984-0E710398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9AA-A7C8-43DE-87B0-CD70CD15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627-21B1-42E9-BA93-EB22986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6CFC-6F73-452F-9A19-0E5C0EFB3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9320"/>
            <a:ext cx="475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Исус - туй чудесно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ълно е със благост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ва то във всяко вре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мир, любов и радос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1708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874440"/>
            <a:ext cx="493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Във Исусовото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ще вървим ние все напред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чрез Него ще побед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наште врагове навред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40960"/>
            <a:ext cx="50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Колко скъпо за нас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е това на наший Сп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т греха ни то избав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и е силен щит за на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14040"/>
            <a:ext cx="50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, възпейте вий туй им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разгласете го навред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окле целий свят го чу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и ще му даде отве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56:00Z</dcterms:created>
  <dc:creator>TrifonTrifonow</dc:creator>
  <dc:description/>
  <dc:language>en-US</dc:language>
  <cp:lastModifiedBy>TrifonTrifonow</cp:lastModifiedBy>
  <dcterms:modified xsi:type="dcterms:W3CDTF">2005-11-22T06:57:13Z</dcterms:modified>
  <cp:revision>4</cp:revision>
  <dc:subject/>
  <dc:title>Slide 1</dc:title>
</cp:coreProperties>
</file>